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E47-9D97-4BED-BDC6-DE9B9A0D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D09-2956-43D6-80D1-723A5A9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256-5E01-46A4-898C-7F521FE3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219-A482-4E7F-B3B6-3F5E3066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60E4-3C49-4835-BB50-9B89BD54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2DD9-0C3C-4B8C-9A04-C5C584B7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C779-DC24-4DC7-9044-3E3C8C8B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A0E4-283F-4739-B071-72BA4CED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2BDD-A740-4039-A8EB-E6C0BB25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FE00-50AB-4D97-B491-5F22CB9D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52C1-8EA4-4372-B17A-276DC88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8F2-68C0-47E6-86B1-60F189E6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2306-2EEC-48A3-ACCC-74E5D8A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920F-7E84-4D70-8865-37C16BAB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335C-1834-4754-8DB6-DE06E034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8FBE-638F-4EA0-A916-7E8C3CEE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728-429C-4606-AA72-1A97205B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848-F0BF-4601-946C-75EC4511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77E-E047-4F04-B5D0-EA5A7434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553-02C7-49AE-8626-C5B614C1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110-30A2-4BB9-8B92-E5267C64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A81-BEC2-44EA-BCAD-78A827D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3F5-9641-42BF-BBDA-23553ADB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BE2-C386-42FE-B4F6-9DAE3515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42A1-D628-4B10-B97E-9028FA7EA536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296F-DBE3-4F0E-B644-7137AD50387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6.wmf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16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ĄTY.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ODZAJE KĄTÓW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ZE WZGLĘDU NA POŁOŻ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PRZY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58705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+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180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16064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rysujmy na prostej n kąt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ółpełn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Jak już zapewne wiesz, jego miara wynosi 18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0320" y="1719360"/>
            <a:ext cx="692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tej samej prostej oznacz dowolny punkt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narysuj od niego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ółprost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133720"/>
            <a:ext cx="68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Łatwo można zauważyć, iż półprosta podzieliła kąt półpełny na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dwa kąt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na rysunku oznaczone literami greckiego alfabetu -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15952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mówimy, że ką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s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kąta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lub na odwrót – ką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st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zyległ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kąta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Między tymi kątami zawsze zachodzi związe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32000" y="4525920"/>
          <a:ext cx="360072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525920"/>
                    <a:ext cx="360072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40200" y="448776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0200" y="448776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716360" y="454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859280" y="2825640"/>
          <a:ext cx="111780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825640"/>
                    <a:ext cx="11178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05480" y="4255920"/>
          <a:ext cx="614160" cy="32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05480" y="425592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003640" y="4329000"/>
          <a:ext cx="123840" cy="23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3640" y="432900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788000" y="4292640"/>
          <a:ext cx="112680" cy="23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88000" y="4292640"/>
                    <a:ext cx="11268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443640" y="4311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WIERZCHOŁK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587052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16064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steś już zaznajomiony z kątami przyległymi, aby zapoznać się z kolejnym rodzajem kątów wykorzystajmy poprzedni rysunek, obrazujący kąty przyległ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687680"/>
            <a:ext cx="69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zedłuż półprostą o początku w punkcie A i oznacz powstałą w ten sposób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ost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205000"/>
            <a:ext cx="70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 ten sposób dwie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os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zecinające się w punkcie A, stworzyły 4 kąty. Jak można dostrzec, kąty leżące na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przeciwległy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ierzchołkach mają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ów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i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15952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ierzchołkow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Aby lepiej je sobie zobrazować zauważ, iż kąty wierzchołkowe to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dwie pary kątów przyległyc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z tą różnicą, że zamiast półprostej (ograniczonej punktem A) mamy prostą 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59280" y="3984480"/>
          <a:ext cx="3600360" cy="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3984480"/>
                    <a:ext cx="3600360" cy="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767120" y="394668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7120" y="394668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688000" y="4292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32400" y="3716280"/>
          <a:ext cx="61416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2400" y="371628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932360" y="3789360"/>
          <a:ext cx="123840" cy="23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8936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80000" y="3789360"/>
          <a:ext cx="112680" cy="23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0000" y="3789360"/>
                    <a:ext cx="11268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370560" y="377208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62308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= |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824360" y="3143160"/>
          <a:ext cx="560520" cy="862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24360" y="3143160"/>
                    <a:ext cx="56052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299120" y="3968640"/>
          <a:ext cx="560160" cy="862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9120" y="3968640"/>
                    <a:ext cx="56016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535640" y="4005360"/>
          <a:ext cx="614160" cy="325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35640" y="4005360"/>
                    <a:ext cx="614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70560" y="3997440"/>
          <a:ext cx="757080" cy="51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0560" y="3997440"/>
                    <a:ext cx="757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319640" y="3473280"/>
          <a:ext cx="792000" cy="568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19640" y="3473280"/>
                    <a:ext cx="7920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863960" y="4057560"/>
          <a:ext cx="103320" cy="235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63960" y="4057560"/>
                    <a:ext cx="10332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26000" y="3968640"/>
          <a:ext cx="90360" cy="235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26000" y="3968640"/>
                    <a:ext cx="903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111640" y="303372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896000" y="4041720"/>
            <a:ext cx="79200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ODPOWIADAJĄ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280" y="873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160640"/>
            <a:ext cx="71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znając następne rodzaje kątów, skorzystamy z rysunku kątów przyległ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503360"/>
            <a:ext cx="69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rysuj prostą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ównoległ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prostej n (oznaczmy ją literą „m”), a półprostą przekształć w prostą 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023920"/>
            <a:ext cx="70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kt przecięcia prostej m i prostej k oznaczmy literą „B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36256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dpowiadając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Pamiętaj, aby kąty można było nazwać odpowiadającymi, dwie proste (w naszym przypadku m i n)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MUSZĄ być równoległ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349360"/>
            <a:ext cx="705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k łatwo możemy zauważyć z rysunku, kąty powstałe w wyniku przecięcia się prostych n i k w punkcie A mają taką samą miarę, co kąty powstałe w wyniku przecięcia się prostej m z prostą k w punkcie 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76720" y="4686480"/>
          <a:ext cx="237636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68648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57640" y="464832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7640" y="46483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105440" y="4699080"/>
            <a:ext cx="46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29080" y="3589200"/>
          <a:ext cx="614520" cy="3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9080" y="3589200"/>
                    <a:ext cx="6145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321080" y="4489560"/>
          <a:ext cx="123840" cy="23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21080" y="4489560"/>
                    <a:ext cx="1238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068720" y="4470480"/>
          <a:ext cx="112680" cy="23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8720" y="4470480"/>
                    <a:ext cx="11268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402160" y="4473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76720" y="3876840"/>
          <a:ext cx="2376360" cy="5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87684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213080" y="3336840"/>
          <a:ext cx="889200" cy="13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3080" y="3336840"/>
                    <a:ext cx="8892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573440" y="3660840"/>
          <a:ext cx="113040" cy="23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3440" y="3660840"/>
                    <a:ext cx="1130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826160" y="3678120"/>
          <a:ext cx="123840" cy="235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26160" y="367812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925800" y="4416480"/>
          <a:ext cx="614520" cy="325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25800" y="4416480"/>
                    <a:ext cx="6145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62360" y="3841920"/>
          <a:ext cx="127080" cy="128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62360" y="38419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889440" y="4705200"/>
          <a:ext cx="349200" cy="524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89440" y="4705200"/>
                    <a:ext cx="349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645080" y="387684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5800" y="3664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04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 ||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3176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Y NAPRZEMIANLEGŁ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6280" y="873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052640"/>
            <a:ext cx="71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zy tym rodzaju kątów skorzystamy z rysunku kątów odpowiadając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376280"/>
            <a:ext cx="69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rysuj kąty </a:t>
            </a:r>
            <a:r>
              <a:rPr b="1" lang="en-US" sz="1400" spc="-1" strike="noStrike">
                <a:solidFill>
                  <a:srgbClr val="6600ff"/>
                </a:solidFill>
                <a:latin typeface="Arial"/>
              </a:rPr>
              <a:t>wierzchołkow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 tych, które już są oznaczone na rysu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1700280"/>
            <a:ext cx="705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uważ, że kąty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400" spc="-1" strike="noStrike">
                <a:solidFill>
                  <a:srgbClr val="6600ff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które zostały dorysowane są zarówno wierzchołkowe, jak i odpowiadające, więc kąt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żący na prostej n ma taką samą miarę jak kąt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żący na prostej 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5362560"/>
            <a:ext cx="727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ie typy kątów nazywamy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aprzemianległym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Pamiętaj, aby kąty można było nazwać naprzemianległymi, dwie proste (w naszym przypadku m i n)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MUSZĄ być równoległ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276720" y="4686480"/>
          <a:ext cx="2376360" cy="5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68648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157640" y="4648320"/>
          <a:ext cx="127080" cy="1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7640" y="46483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680000" y="472428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321080" y="4489560"/>
          <a:ext cx="123840" cy="23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4489560"/>
                    <a:ext cx="1238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068720" y="4470480"/>
          <a:ext cx="112680" cy="23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4470480"/>
                    <a:ext cx="11268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402160" y="447372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76720" y="3876840"/>
          <a:ext cx="2376360" cy="5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876840"/>
                    <a:ext cx="2376360" cy="5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211640" y="3336840"/>
          <a:ext cx="888840" cy="13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1640" y="3336840"/>
                    <a:ext cx="88884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573440" y="3660840"/>
          <a:ext cx="113040" cy="23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3440" y="3660840"/>
                    <a:ext cx="11304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826160" y="3678120"/>
          <a:ext cx="123840" cy="235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26160" y="3678120"/>
                    <a:ext cx="12384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62360" y="3841920"/>
          <a:ext cx="127080" cy="12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62360" y="3841920"/>
                    <a:ext cx="127080" cy="1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889440" y="4705200"/>
          <a:ext cx="349200" cy="52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9440" y="4705200"/>
                    <a:ext cx="3492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11640" y="392580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5800" y="3664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0400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 ||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176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10160" y="4689360"/>
          <a:ext cx="393480" cy="47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10160" y="4689360"/>
                    <a:ext cx="393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859280" y="3456000"/>
          <a:ext cx="393840" cy="477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59280" y="3456000"/>
                    <a:ext cx="393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981600" y="4689360"/>
          <a:ext cx="698400" cy="473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81600" y="4689360"/>
                    <a:ext cx="698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284720" y="3460680"/>
          <a:ext cx="698400" cy="473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84720" y="3460680"/>
                    <a:ext cx="698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295880" y="3897360"/>
          <a:ext cx="276120" cy="379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295880" y="3897360"/>
                    <a:ext cx="276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392720" y="4344840"/>
          <a:ext cx="276120" cy="379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92720" y="4344840"/>
                    <a:ext cx="276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535640" y="3897360"/>
          <a:ext cx="588960" cy="399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535640" y="3897360"/>
                    <a:ext cx="588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851280" y="4324320"/>
          <a:ext cx="588960" cy="399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851280" y="4324320"/>
                    <a:ext cx="588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52920" y="3841920"/>
          <a:ext cx="90360" cy="2347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552920" y="3841920"/>
                    <a:ext cx="9036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032360" y="4670280"/>
          <a:ext cx="90360" cy="235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032360" y="4670280"/>
                    <a:ext cx="903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788000" y="3933720"/>
          <a:ext cx="102960" cy="235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788000" y="3933720"/>
                    <a:ext cx="10296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253040" y="4741920"/>
          <a:ext cx="102960" cy="2347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253040" y="4741920"/>
                    <a:ext cx="102960" cy="23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 flipH="1" flipV="1">
            <a:off x="4319280" y="4761000"/>
            <a:ext cx="43164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788000" y="3933720"/>
            <a:ext cx="39672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457360"/>
            <a:ext cx="688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obnie wygląda sytuacja z kątem rozwartym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akże leżącym na prostej n – miara jego kąta będzie taka sama, jak kąta wierzchołkowego do jego kąta odpowiadającego, czyli w naszym przypadku – kąta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Na rysunku widać wszystkie pary takich ką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2:07:11Z</dcterms:modified>
  <cp:revision>25</cp:revision>
  <dc:subject/>
  <dc:title>Slajd 1</dc:title>
</cp:coreProperties>
</file>